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83FB3-969E-45A2-85CB-1F70478D6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EB119-98BB-4EE9-9160-3C3927D4C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A5E18A-CC7E-4152-9AAE-7344CC0551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450B0B-E7D0-4407-B991-7A2A4FBEBC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76A960-4D07-407B-A8B0-1817AD0628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841107-7EEE-4CC2-82C5-454B410A2A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02150D-F472-48B4-88D6-12A1F43B6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F0B7AD-13B7-4336-9A3C-72B76CE0D2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91931D-3E15-406A-B0CA-D7647F3EBB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303988-FEF5-4214-846F-0B8389DB63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1F17DA-A613-43E8-9768-94A7F09DFD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6B2F6B-D869-4957-9436-8C87894C6F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9497A-1AD6-48A7-BF44-1EF55F0FF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4D24BF-16A0-492F-B331-81CAF2A520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1C51AE-55F4-47BF-BE27-1F230E0BA7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9A0C2F-3161-4FB7-BF0D-3DB2262D7F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3D6DA2-D7E0-47FC-B1BC-9CAD4F37BD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60624C-78CC-469C-88CB-ACC0A09834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6E04A1-B754-4BF2-8912-F385A9F90A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6FE434-88FF-4339-A84C-038672A957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2C07A8-A06B-40B6-8F44-F2405CD855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038731-2E21-4EDA-90F5-7E12733D78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2E74D23-ED71-4534-A5C3-A300F2524C1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76019-0B51-48ED-87E2-F13E8DB62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90893D-904F-47B7-A5BE-364D513A01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749DE-9359-4445-B827-CCA8F426A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DB4A1-FA9E-45F1-A2DA-211A9957F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23E37-FDDF-4A8F-B62B-11E984FAC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71AD3-B54A-4406-83C1-54E1FF762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0DFDD-DF6F-4A69-9DA5-1B6C21D67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E7B89-1331-4EB4-8FE2-A10EC92C0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33280-1CD0-4A4C-9E78-BDFFF42E7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2EDDB-F154-4B9E-B586-CF79CFE86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92446-7A68-4DEC-A71F-9850E5BE1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D119D-D7A6-436E-8105-BB754587B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FAE61-1BAB-44F5-9E0A-25FD4213B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CE4F7-3C4D-44D4-8B78-51DD87622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FC480-1BCB-481F-A06D-1738DC953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B8CEC2-A136-4FBF-BE57-5F3036A4B0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7CE554-CDE4-49D2-9AC1-C869F7456F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126015-7AF2-4A45-920D-93FB55C00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BF9C8-4389-4DAF-9A23-5CE0F5E40C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12CF0-D621-4AB2-9EA9-362A5F97C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EE0F0-403A-422A-9860-9FC60DB16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7341B-F64B-4C42-A3BA-33C7D36D51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2150D-8758-4208-AE82-EAB4F4FB3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F54CA-B777-4FDF-BECB-9AC199E13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000AF-4474-4FE8-8D65-B6E4589ED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70FE2-AE99-4EA6-8DB1-BAB992181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019D93-CC84-4AF7-9310-FBDE8209BB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F6FEFC-E52E-464A-A31F-1B7D05A2E0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F91141-31C9-4DB5-BE30-EC7B4E7E26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F6A79-517C-45BF-BAE7-80354055FA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579F26-E68B-4033-AB31-446D04E288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6C96B-4849-4638-AB40-8F2117815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58FF7A-2534-4C7B-8B68-03ACC90D97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ADF8FE-4C35-4FD5-83A9-17C1DAB87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0C1511-C73A-45DD-9643-E447371822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ADC8E-9E6F-495A-A641-46ABBACB3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A10B88-503D-472B-9E5F-49FBCC9AE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ABFFD-7483-40A8-A0F9-330AA3A8D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52A33E-B4BE-4974-90E4-1498D667D3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288058-B2C6-4966-BAEF-3338877EFD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E0DD84-8A0C-4D0D-B8D8-515A3A6651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A93B74-CCDB-4B7E-8D64-EB18A7E93D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D67A2-AA0E-4D20-83D2-748C09F3C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3142D9-D99C-4411-9DBE-BCDD74E89F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802F92-7419-44B1-87E2-CFEE523870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E746E-E90A-44FC-A8D8-9C16BC1F51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4053A8-ACAD-4D36-AD6F-53ABE2B90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F1C1DC-84BE-4561-8AC4-835DBD095B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F0405-BBBB-4C5B-A47E-A7A9A7BD4D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22D07D-4077-4587-9204-01E0F4A815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8320A2-D1A1-4823-B919-49633C392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316625-2C44-4B31-94A1-14E46B8E3D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1F6D41-0607-4376-BF88-659B84487D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5EF34-4238-41A8-A52F-9B28E70A2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89DD64-EDD2-463D-AAA1-EE1EF54345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B73B3B-11E5-47F3-B0F2-C97EC7C669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68CFDB-B4BF-4B23-90E7-A1AC0DAB39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586909-0089-4374-B878-E3D92CB90F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0B5C86-61B2-4690-8A09-752324177B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A21B00-2DC6-45F5-B008-E0452C57B2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A65CEE-B625-4BC0-90D8-CABCF5AE9D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538EF-662B-48AA-B585-FA5D12316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77DEA5-97BC-4E03-BB5A-F4F3012B67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2F00F-5F5C-476D-AD30-C953C76837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D5358-8BB9-4438-9C19-CA30136EF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8E853E-F032-41FF-97F3-E5AE759BFB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92BA5E-CC4D-4980-BFB8-2429F192B0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F34E4E-33BA-4BF0-86D9-1AA390ADF5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FCA4F5-C1EF-4D98-8B39-A89E4DE45B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8F5CD2-EFAA-4E0A-9D83-EDD54CE280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FD174B-8E28-46BA-856B-75F81C30EA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22E9CB-C899-4E60-8AAA-4F2255FE47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26EC37-825E-42FC-9E33-D86EE22F2F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50A10D-51EC-4C7C-9A5B-690B94C90B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D0D529-29E6-4E1C-9CE7-A73E976F4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12CD6-E28E-49D6-B66C-A9946786B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BCE6A9-C059-4782-A4EC-25F0241AE0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2717F8-3C77-45EA-863C-4BE8828615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111A8E-BD36-4EAE-94DF-878CB03288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D80A49-D7AE-4A79-BB47-604C727FED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16AF5D-2AB0-4385-B69A-746047739D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0941D0-40F7-45F9-98DD-DC0A708840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58CFDA-278F-4742-9FF0-1F1955F554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C51AA7-8985-4A48-9D56-7B0949E75A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4BB3EE-BB7F-4CC2-9A9E-CA9A7CBA69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35F7A7-39A2-4EDD-86A9-1C270D3F3C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2C44E-5919-482C-BA4C-417184D28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FB2DBB-548A-4FD0-976E-DA8863ED0C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F643B8-81A9-435B-8F60-9B98C1E91D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A5AA47-037F-4178-ACDC-26A01CC479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61FEFD-D1C8-4062-ABF5-5D6BB8A8B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F2BC62-7DF2-4DF9-8AEB-E12CC32929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E29331-502B-4ED2-BE09-27509B3E06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94F165-71E5-446B-906D-34714DFCF5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1D8942-3EB5-40BA-880E-AB9C77B5BE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779711-0811-447B-9CCA-A4D7D9C4A4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9ACD9C-B718-418B-A748-1D1AEB5672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 name="PlaceHolder 3"/>
          <p:cNvSpPr>
            <a:spLocks noGrp="1"/>
          </p:cNvSpPr>
          <p:nvPr>
            <p:ph type="dt" idx="1"/>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35C9-E1E3-4E95-B50F-2ABF605C6246}"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6" name="Rectangle 6"/>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7"/>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8" name="Group 8"/>
          <p:cNvGrpSpPr/>
          <p:nvPr/>
        </p:nvGrpSpPr>
        <p:grpSpPr>
          <a:xfrm>
            <a:off x="7996320" y="212040"/>
            <a:ext cx="1119600" cy="625320"/>
            <a:chOff x="7996320" y="212040"/>
            <a:chExt cx="1119600" cy="625320"/>
          </a:xfrm>
        </p:grpSpPr>
        <p:grpSp>
          <p:nvGrpSpPr>
            <p:cNvPr id="449" name="Freeform 9"/>
            <p:cNvGrpSpPr/>
            <p:nvPr/>
          </p:nvGrpSpPr>
          <p:grpSpPr>
            <a:xfrm>
              <a:off x="8085960" y="500400"/>
              <a:ext cx="997200" cy="336960"/>
              <a:chOff x="8085960" y="500400"/>
              <a:chExt cx="997200" cy="336960"/>
            </a:xfrm>
          </p:grpSpPr>
          <p:pic>
            <p:nvPicPr>
              <p:cNvPr id="450" name="Freeform 9" descr=""/>
              <p:cNvPicPr/>
              <p:nvPr/>
            </p:nvPicPr>
            <p:blipFill>
              <a:blip r:embed="rId2"/>
              <a:stretch/>
            </p:blipFill>
            <p:spPr>
              <a:xfrm>
                <a:off x="8089920" y="520920"/>
                <a:ext cx="993240" cy="210960"/>
              </a:xfrm>
              <a:prstGeom prst="rect">
                <a:avLst/>
              </a:prstGeom>
              <a:ln w="0">
                <a:noFill/>
              </a:ln>
            </p:spPr>
          </p:pic>
          <p:sp>
            <p:nvSpPr>
              <p:cNvPr id="451"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 name="Rectangle 10"/>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11"/>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56" name="PlaceHolder 3"/>
          <p:cNvSpPr>
            <a:spLocks noGrp="1"/>
          </p:cNvSpPr>
          <p:nvPr>
            <p:ph type="dt" idx="28"/>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69CD-9FB1-4398-ADC5-CCFF24C3A25D}"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Rectangle 35"/>
          <p:cNvSpPr/>
          <p:nvPr/>
        </p:nvSpPr>
        <p:spPr>
          <a:xfrm>
            <a:off x="0" y="1928880"/>
            <a:ext cx="9144000" cy="49291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46" descr="2.png"/>
          <p:cNvPicPr/>
          <p:nvPr/>
        </p:nvPicPr>
        <p:blipFill>
          <a:blip r:embed="rId2"/>
          <a:stretch/>
        </p:blipFill>
        <p:spPr>
          <a:xfrm>
            <a:off x="5072040" y="3571920"/>
            <a:ext cx="3718080" cy="3286080"/>
          </a:xfrm>
          <a:prstGeom prst="rect">
            <a:avLst/>
          </a:prstGeom>
          <a:ln w="0">
            <a:noFill/>
          </a:ln>
        </p:spPr>
      </p:pic>
      <p:grpSp>
        <p:nvGrpSpPr>
          <p:cNvPr id="43" name="Group 20"/>
          <p:cNvGrpSpPr/>
          <p:nvPr/>
        </p:nvGrpSpPr>
        <p:grpSpPr>
          <a:xfrm>
            <a:off x="7287480" y="716400"/>
            <a:ext cx="867600" cy="1688400"/>
            <a:chOff x="7287480" y="716400"/>
            <a:chExt cx="867600" cy="1688400"/>
          </a:xfrm>
        </p:grpSpPr>
        <p:sp>
          <p:nvSpPr>
            <p:cNvPr id="44" name="Rectangle 19"/>
            <p:cNvSpPr/>
            <p:nvPr/>
          </p:nvSpPr>
          <p:spPr>
            <a:xfrm rot="360000">
              <a:off x="7868880" y="87876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Group 18"/>
            <p:cNvGrpSpPr/>
            <p:nvPr/>
          </p:nvGrpSpPr>
          <p:grpSpPr>
            <a:xfrm>
              <a:off x="7287480" y="716400"/>
              <a:ext cx="669960" cy="1688400"/>
              <a:chOff x="7287480" y="716400"/>
              <a:chExt cx="669960" cy="1688400"/>
            </a:xfrm>
          </p:grpSpPr>
          <p:sp>
            <p:nvSpPr>
              <p:cNvPr id="46" name="Rectangle 16"/>
              <p:cNvSpPr/>
              <p:nvPr/>
            </p:nvSpPr>
            <p:spPr>
              <a:xfrm rot="360000">
                <a:off x="7425720" y="740880"/>
                <a:ext cx="50292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7"/>
              <p:cNvSpPr/>
              <p:nvPr/>
            </p:nvSpPr>
            <p:spPr>
              <a:xfrm rot="360000">
                <a:off x="7341840" y="1310760"/>
                <a:ext cx="50292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 name="Group 26"/>
          <p:cNvGrpSpPr/>
          <p:nvPr/>
        </p:nvGrpSpPr>
        <p:grpSpPr>
          <a:xfrm>
            <a:off x="7856640" y="1067400"/>
            <a:ext cx="966600" cy="1712880"/>
            <a:chOff x="7856640" y="1067400"/>
            <a:chExt cx="966600" cy="1712880"/>
          </a:xfrm>
        </p:grpSpPr>
        <p:sp>
          <p:nvSpPr>
            <p:cNvPr id="49" name="Rectangle 22"/>
            <p:cNvSpPr/>
            <p:nvPr/>
          </p:nvSpPr>
          <p:spPr>
            <a:xfrm rot="600000">
              <a:off x="8488440" y="124632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24"/>
            <p:cNvSpPr/>
            <p:nvPr/>
          </p:nvSpPr>
          <p:spPr>
            <a:xfrm rot="600000">
              <a:off x="8082000" y="110664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5"/>
            <p:cNvSpPr/>
            <p:nvPr/>
          </p:nvSpPr>
          <p:spPr>
            <a:xfrm rot="600000">
              <a:off x="7945560" y="167436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41"/>
          <p:cNvGrpSpPr/>
          <p:nvPr/>
        </p:nvGrpSpPr>
        <p:grpSpPr>
          <a:xfrm>
            <a:off x="0" y="1809720"/>
            <a:ext cx="9144000" cy="120600"/>
            <a:chOff x="0" y="1809720"/>
            <a:chExt cx="9144000" cy="120600"/>
          </a:xfrm>
        </p:grpSpPr>
        <p:sp>
          <p:nvSpPr>
            <p:cNvPr id="53" name="Straight Connector 31"/>
            <p:cNvSpPr/>
            <p:nvPr/>
          </p:nvSpPr>
          <p:spPr>
            <a:xfrm>
              <a:off x="0" y="180972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Straight Connector 33"/>
            <p:cNvSpPr/>
            <p:nvPr/>
          </p:nvSpPr>
          <p:spPr>
            <a:xfrm>
              <a:off x="0" y="1865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Straight Connector 34"/>
            <p:cNvSpPr/>
            <p:nvPr/>
          </p:nvSpPr>
          <p:spPr>
            <a:xfrm>
              <a:off x="0" y="19288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56" name="Group 277" descr=""/>
          <p:cNvPicPr/>
          <p:nvPr/>
        </p:nvPicPr>
        <p:blipFill>
          <a:blip r:embed="rId3"/>
          <a:stretch/>
        </p:blipFill>
        <p:spPr>
          <a:xfrm>
            <a:off x="438120" y="2298600"/>
            <a:ext cx="1414440" cy="14986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9" name="PlaceHolder 3"/>
          <p:cNvSpPr>
            <a:spLocks noGrp="1"/>
          </p:cNvSpPr>
          <p:nvPr>
            <p:ph type="dt" idx="4"/>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A2CF-1B6D-491D-BE8E-13A64E8B1828}"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Straight Connector 6"/>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99" name="Group 277" descr=""/>
          <p:cNvPicPr/>
          <p:nvPr/>
        </p:nvPicPr>
        <p:blipFill>
          <a:blip r:embed="rId2"/>
          <a:stretch/>
        </p:blipFill>
        <p:spPr>
          <a:xfrm>
            <a:off x="317520" y="212760"/>
            <a:ext cx="968400" cy="1000080"/>
          </a:xfrm>
          <a:prstGeom prst="rect">
            <a:avLst/>
          </a:prstGeom>
          <a:ln w="0">
            <a:noFill/>
          </a:ln>
        </p:spPr>
      </p:pic>
      <p:sp>
        <p:nvSpPr>
          <p:cNvPr id="100" name="Rectangle 11"/>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2"/>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8"/>
          <p:cNvGrpSpPr/>
          <p:nvPr/>
        </p:nvGrpSpPr>
        <p:grpSpPr>
          <a:xfrm>
            <a:off x="7996320" y="212040"/>
            <a:ext cx="1119600" cy="625320"/>
            <a:chOff x="7996320" y="212040"/>
            <a:chExt cx="1119600" cy="625320"/>
          </a:xfrm>
        </p:grpSpPr>
        <p:grpSp>
          <p:nvGrpSpPr>
            <p:cNvPr id="103" name="Freeform 14"/>
            <p:cNvGrpSpPr/>
            <p:nvPr/>
          </p:nvGrpSpPr>
          <p:grpSpPr>
            <a:xfrm>
              <a:off x="8085960" y="500400"/>
              <a:ext cx="997200" cy="336960"/>
              <a:chOff x="8085960" y="500400"/>
              <a:chExt cx="997200" cy="336960"/>
            </a:xfrm>
          </p:grpSpPr>
          <p:pic>
            <p:nvPicPr>
              <p:cNvPr id="104" name="Freeform 14" descr=""/>
              <p:cNvPicPr/>
              <p:nvPr/>
            </p:nvPicPr>
            <p:blipFill>
              <a:blip r:embed="rId3"/>
              <a:stretch/>
            </p:blipFill>
            <p:spPr>
              <a:xfrm>
                <a:off x="8089920" y="520920"/>
                <a:ext cx="993240" cy="210960"/>
              </a:xfrm>
              <a:prstGeom prst="rect">
                <a:avLst/>
              </a:prstGeom>
              <a:ln w="0">
                <a:noFill/>
              </a:ln>
            </p:spPr>
          </p:pic>
          <p:sp>
            <p:nvSpPr>
              <p:cNvPr id="105"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Rectangle 16"/>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0" name="PlaceHolder 3"/>
          <p:cNvSpPr>
            <a:spLocks noGrp="1"/>
          </p:cNvSpPr>
          <p:nvPr>
            <p:ph type="dt" idx="7"/>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4"/>
          <p:cNvSpPr>
            <a:spLocks noGrp="1"/>
          </p:cNvSpPr>
          <p:nvPr>
            <p:ph type="ftr" idx="8"/>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5"/>
          <p:cNvSpPr>
            <a:spLocks noGrp="1"/>
          </p:cNvSpPr>
          <p:nvPr>
            <p:ph type="sldNum" idx="9"/>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CBF6-20B8-4DF4-8D8A-20BB5DABBFF7}"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9" name="Rectangle 18"/>
          <p:cNvSpPr/>
          <p:nvPr/>
        </p:nvSpPr>
        <p:spPr>
          <a:xfrm>
            <a:off x="0" y="4718160"/>
            <a:ext cx="9144000" cy="17287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6"/>
          <p:cNvGrpSpPr/>
          <p:nvPr/>
        </p:nvGrpSpPr>
        <p:grpSpPr>
          <a:xfrm>
            <a:off x="7031880" y="3440520"/>
            <a:ext cx="867960" cy="1688400"/>
            <a:chOff x="7031880" y="3440520"/>
            <a:chExt cx="867960" cy="1688400"/>
          </a:xfrm>
        </p:grpSpPr>
        <p:sp>
          <p:nvSpPr>
            <p:cNvPr id="151" name="Rectangle 7"/>
            <p:cNvSpPr/>
            <p:nvPr/>
          </p:nvSpPr>
          <p:spPr>
            <a:xfrm rot="360000">
              <a:off x="7613640" y="360288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8"/>
            <p:cNvGrpSpPr/>
            <p:nvPr/>
          </p:nvGrpSpPr>
          <p:grpSpPr>
            <a:xfrm>
              <a:off x="7031880" y="3440520"/>
              <a:ext cx="670320" cy="1688400"/>
              <a:chOff x="7031880" y="3440520"/>
              <a:chExt cx="670320" cy="1688400"/>
            </a:xfrm>
          </p:grpSpPr>
          <p:sp>
            <p:nvSpPr>
              <p:cNvPr id="153" name="Rectangle 9"/>
              <p:cNvSpPr/>
              <p:nvPr/>
            </p:nvSpPr>
            <p:spPr>
              <a:xfrm rot="360000">
                <a:off x="7170120" y="3465000"/>
                <a:ext cx="50328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0"/>
              <p:cNvSpPr/>
              <p:nvPr/>
            </p:nvSpPr>
            <p:spPr>
              <a:xfrm rot="360000">
                <a:off x="7086240" y="4034880"/>
                <a:ext cx="50328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5" name="Group 11"/>
          <p:cNvGrpSpPr/>
          <p:nvPr/>
        </p:nvGrpSpPr>
        <p:grpSpPr>
          <a:xfrm>
            <a:off x="7620120" y="3791520"/>
            <a:ext cx="966600" cy="1712880"/>
            <a:chOff x="7620120" y="3791520"/>
            <a:chExt cx="966600" cy="1712880"/>
          </a:xfrm>
        </p:grpSpPr>
        <p:sp>
          <p:nvSpPr>
            <p:cNvPr id="156" name="Rectangle 12"/>
            <p:cNvSpPr/>
            <p:nvPr/>
          </p:nvSpPr>
          <p:spPr>
            <a:xfrm rot="600000">
              <a:off x="8251920" y="397044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3"/>
            <p:cNvSpPr/>
            <p:nvPr/>
          </p:nvSpPr>
          <p:spPr>
            <a:xfrm rot="600000">
              <a:off x="7845480" y="383076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4"/>
            <p:cNvSpPr/>
            <p:nvPr/>
          </p:nvSpPr>
          <p:spPr>
            <a:xfrm rot="600000">
              <a:off x="7709040" y="439848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9"/>
          <p:cNvGrpSpPr/>
          <p:nvPr/>
        </p:nvGrpSpPr>
        <p:grpSpPr>
          <a:xfrm>
            <a:off x="0" y="4575240"/>
            <a:ext cx="9144000" cy="120600"/>
            <a:chOff x="0" y="4575240"/>
            <a:chExt cx="9144000" cy="120600"/>
          </a:xfrm>
        </p:grpSpPr>
        <p:sp>
          <p:nvSpPr>
            <p:cNvPr id="160" name="Straight Connector 15"/>
            <p:cNvSpPr/>
            <p:nvPr/>
          </p:nvSpPr>
          <p:spPr>
            <a:xfrm>
              <a:off x="0" y="45752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Straight Connector 16"/>
            <p:cNvSpPr/>
            <p:nvPr/>
          </p:nvSpPr>
          <p:spPr>
            <a:xfrm>
              <a:off x="0" y="46306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Straight Connector 17"/>
            <p:cNvSpPr/>
            <p:nvPr/>
          </p:nvSpPr>
          <p:spPr>
            <a:xfrm>
              <a:off x="0" y="46944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163" name="Group 277" descr=""/>
          <p:cNvPicPr/>
          <p:nvPr/>
        </p:nvPicPr>
        <p:blipFill>
          <a:blip r:embed="rId2"/>
          <a:stretch/>
        </p:blipFill>
        <p:spPr>
          <a:xfrm>
            <a:off x="360360" y="5005440"/>
            <a:ext cx="992160" cy="10666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66" name="PlaceHolder 3"/>
          <p:cNvSpPr>
            <a:spLocks noGrp="1"/>
          </p:cNvSpPr>
          <p:nvPr>
            <p:ph type="dt" idx="10"/>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1"/>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2"/>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1EA9-47CD-4028-80CB-B199F9DB3E95}"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5"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9"/>
          <p:cNvGrpSpPr/>
          <p:nvPr/>
        </p:nvGrpSpPr>
        <p:grpSpPr>
          <a:xfrm>
            <a:off x="7996320" y="212040"/>
            <a:ext cx="1119600" cy="625320"/>
            <a:chOff x="7996320" y="212040"/>
            <a:chExt cx="1119600" cy="625320"/>
          </a:xfrm>
        </p:grpSpPr>
        <p:grpSp>
          <p:nvGrpSpPr>
            <p:cNvPr id="208" name="Freeform 10"/>
            <p:cNvGrpSpPr/>
            <p:nvPr/>
          </p:nvGrpSpPr>
          <p:grpSpPr>
            <a:xfrm>
              <a:off x="8085960" y="500400"/>
              <a:ext cx="997200" cy="336960"/>
              <a:chOff x="8085960" y="500400"/>
              <a:chExt cx="997200" cy="336960"/>
            </a:xfrm>
          </p:grpSpPr>
          <p:pic>
            <p:nvPicPr>
              <p:cNvPr id="209" name="Freeform 10" descr=""/>
              <p:cNvPicPr/>
              <p:nvPr/>
            </p:nvPicPr>
            <p:blipFill>
              <a:blip r:embed="rId2"/>
              <a:stretch/>
            </p:blipFill>
            <p:spPr>
              <a:xfrm>
                <a:off x="8089920" y="520920"/>
                <a:ext cx="993240" cy="210960"/>
              </a:xfrm>
              <a:prstGeom prst="rect">
                <a:avLst/>
              </a:prstGeom>
              <a:ln w="0">
                <a:noFill/>
              </a:ln>
            </p:spPr>
          </p:pic>
          <p:sp>
            <p:nvSpPr>
              <p:cNvPr id="210"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Rectangle 11"/>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Straight Connector 13"/>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16" name="PlaceHolder 3"/>
          <p:cNvSpPr>
            <a:spLocks noGrp="1"/>
          </p:cNvSpPr>
          <p:nvPr>
            <p:ph type="dt" idx="13"/>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ftr" idx="14"/>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5"/>
          <p:cNvSpPr>
            <a:spLocks noGrp="1"/>
          </p:cNvSpPr>
          <p:nvPr>
            <p:ph type="sldNum" idx="15"/>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C703-85D4-412C-9691-1EFFF955B10A}"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5" name="Rectangle 9"/>
          <p:cNvSpPr/>
          <p:nvPr/>
        </p:nvSpPr>
        <p:spPr>
          <a:xfrm>
            <a:off x="0" y="0"/>
            <a:ext cx="9144000" cy="1143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10"/>
          <p:cNvGrpSpPr/>
          <p:nvPr/>
        </p:nvGrpSpPr>
        <p:grpSpPr>
          <a:xfrm>
            <a:off x="0" y="1143000"/>
            <a:ext cx="9144000" cy="120600"/>
            <a:chOff x="0" y="1143000"/>
            <a:chExt cx="9144000" cy="120600"/>
          </a:xfrm>
        </p:grpSpPr>
        <p:sp>
          <p:nvSpPr>
            <p:cNvPr id="257" name="Straight Connector 11"/>
            <p:cNvSpPr/>
            <p:nvPr/>
          </p:nvSpPr>
          <p:spPr>
            <a:xfrm>
              <a:off x="0" y="11430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Straight Connector 12"/>
            <p:cNvSpPr/>
            <p:nvPr/>
          </p:nvSpPr>
          <p:spPr>
            <a:xfrm>
              <a:off x="0" y="11984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Straight Connector 13"/>
            <p:cNvSpPr/>
            <p:nvPr/>
          </p:nvSpPr>
          <p:spPr>
            <a:xfrm>
              <a:off x="0" y="1262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260" name="Group 277" descr=""/>
          <p:cNvPicPr/>
          <p:nvPr/>
        </p:nvPicPr>
        <p:blipFill>
          <a:blip r:embed="rId2"/>
          <a:stretch/>
        </p:blipFill>
        <p:spPr>
          <a:xfrm>
            <a:off x="285840" y="146160"/>
            <a:ext cx="860400" cy="93348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3" name="PlaceHolder 3"/>
          <p:cNvSpPr>
            <a:spLocks noGrp="1"/>
          </p:cNvSpPr>
          <p:nvPr>
            <p:ph type="dt" idx="16"/>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type="ftr" idx="17"/>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5"/>
          <p:cNvSpPr>
            <a:spLocks noGrp="1"/>
          </p:cNvSpPr>
          <p:nvPr>
            <p:ph type="sldNum" idx="18"/>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42F3-43E6-4019-84BF-387D8D9A93DD}"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2"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Group 9"/>
          <p:cNvGrpSpPr/>
          <p:nvPr/>
        </p:nvGrpSpPr>
        <p:grpSpPr>
          <a:xfrm>
            <a:off x="7996320" y="212040"/>
            <a:ext cx="1119600" cy="625320"/>
            <a:chOff x="7996320" y="212040"/>
            <a:chExt cx="1119600" cy="625320"/>
          </a:xfrm>
        </p:grpSpPr>
        <p:grpSp>
          <p:nvGrpSpPr>
            <p:cNvPr id="305" name="Freeform 10"/>
            <p:cNvGrpSpPr/>
            <p:nvPr/>
          </p:nvGrpSpPr>
          <p:grpSpPr>
            <a:xfrm>
              <a:off x="8085960" y="500400"/>
              <a:ext cx="997200" cy="336960"/>
              <a:chOff x="8085960" y="500400"/>
              <a:chExt cx="997200" cy="336960"/>
            </a:xfrm>
          </p:grpSpPr>
          <p:pic>
            <p:nvPicPr>
              <p:cNvPr id="306" name="Freeform 10" descr=""/>
              <p:cNvPicPr/>
              <p:nvPr/>
            </p:nvPicPr>
            <p:blipFill>
              <a:blip r:embed="rId2"/>
              <a:stretch/>
            </p:blipFill>
            <p:spPr>
              <a:xfrm>
                <a:off x="8089920" y="520920"/>
                <a:ext cx="993240" cy="210960"/>
              </a:xfrm>
              <a:prstGeom prst="rect">
                <a:avLst/>
              </a:prstGeom>
              <a:ln w="0">
                <a:noFill/>
              </a:ln>
            </p:spPr>
          </p:pic>
          <p:sp>
            <p:nvSpPr>
              <p:cNvPr id="307"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Rectangle 11"/>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19"/>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ftr" idx="20"/>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5"/>
          <p:cNvSpPr>
            <a:spLocks noGrp="1"/>
          </p:cNvSpPr>
          <p:nvPr>
            <p:ph type="sldNum" idx="21"/>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2EAD-300D-48AA-B788-83C2F5EDEEE3}"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1" name="Rectangle 8"/>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9"/>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 name="Group 10"/>
          <p:cNvGrpSpPr/>
          <p:nvPr/>
        </p:nvGrpSpPr>
        <p:grpSpPr>
          <a:xfrm>
            <a:off x="7996320" y="212040"/>
            <a:ext cx="1119600" cy="625320"/>
            <a:chOff x="7996320" y="212040"/>
            <a:chExt cx="1119600" cy="625320"/>
          </a:xfrm>
        </p:grpSpPr>
        <p:grpSp>
          <p:nvGrpSpPr>
            <p:cNvPr id="354" name="Freeform 11"/>
            <p:cNvGrpSpPr/>
            <p:nvPr/>
          </p:nvGrpSpPr>
          <p:grpSpPr>
            <a:xfrm>
              <a:off x="8085960" y="500400"/>
              <a:ext cx="997200" cy="336960"/>
              <a:chOff x="8085960" y="500400"/>
              <a:chExt cx="997200" cy="336960"/>
            </a:xfrm>
          </p:grpSpPr>
          <p:pic>
            <p:nvPicPr>
              <p:cNvPr id="355" name="Freeform 11" descr=""/>
              <p:cNvPicPr/>
              <p:nvPr/>
            </p:nvPicPr>
            <p:blipFill>
              <a:blip r:embed="rId2"/>
              <a:stretch/>
            </p:blipFill>
            <p:spPr>
              <a:xfrm>
                <a:off x="8089920" y="520920"/>
                <a:ext cx="993240" cy="210960"/>
              </a:xfrm>
              <a:prstGeom prst="rect">
                <a:avLst/>
              </a:prstGeom>
              <a:ln w="0">
                <a:noFill/>
              </a:ln>
            </p:spPr>
          </p:pic>
          <p:sp>
            <p:nvSpPr>
              <p:cNvPr id="356"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Rectangle 12"/>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3"/>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61" name="PlaceHolder 3"/>
          <p:cNvSpPr>
            <a:spLocks noGrp="1"/>
          </p:cNvSpPr>
          <p:nvPr>
            <p:ph type="dt" idx="22"/>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EB4A-B3D2-4361-A4DB-A8DB5C734896}"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0" name="Rectangle 6"/>
          <p:cNvSpPr/>
          <p:nvPr/>
        </p:nvSpPr>
        <p:spPr>
          <a:xfrm>
            <a:off x="0" y="0"/>
            <a:ext cx="9144000" cy="139068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7"/>
          <p:cNvGrpSpPr/>
          <p:nvPr/>
        </p:nvGrpSpPr>
        <p:grpSpPr>
          <a:xfrm>
            <a:off x="0" y="1380960"/>
            <a:ext cx="9144000" cy="120960"/>
            <a:chOff x="0" y="1380960"/>
            <a:chExt cx="9144000" cy="120960"/>
          </a:xfrm>
        </p:grpSpPr>
        <p:sp>
          <p:nvSpPr>
            <p:cNvPr id="402" name="Straight Connector 8"/>
            <p:cNvSpPr/>
            <p:nvPr/>
          </p:nvSpPr>
          <p:spPr>
            <a:xfrm>
              <a:off x="0" y="13809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Straight Connector 9"/>
            <p:cNvSpPr/>
            <p:nvPr/>
          </p:nvSpPr>
          <p:spPr>
            <a:xfrm>
              <a:off x="0" y="14367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Straight Connector 10"/>
            <p:cNvSpPr/>
            <p:nvPr/>
          </p:nvSpPr>
          <p:spPr>
            <a:xfrm>
              <a:off x="0" y="15004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07" name="PlaceHolder 3"/>
          <p:cNvSpPr>
            <a:spLocks noGrp="1"/>
          </p:cNvSpPr>
          <p:nvPr>
            <p:ph type="dt" idx="25"/>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4"/>
          <p:cNvSpPr>
            <a:spLocks noGrp="1"/>
          </p:cNvSpPr>
          <p:nvPr>
            <p:ph type="ftr" idx="26"/>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PlaceHolder 5"/>
          <p:cNvSpPr>
            <a:spLocks noGrp="1"/>
          </p:cNvSpPr>
          <p:nvPr>
            <p:ph type="sldNum" idx="27"/>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E583-5552-489E-B558-E620E64A977B}"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reation &amp; Early Days</a:t>
            </a:r>
            <a:r>
              <a:rPr b="0" lang="en-US" sz="2500" spc="-1" strike="noStrike">
                <a:solidFill>
                  <a:srgbClr val="000000"/>
                </a:solidFill>
                <a:latin typeface="Berlin Sans FB"/>
                <a:ea typeface="굴림"/>
              </a:rPr>
              <a:t>:</a:t>
            </a:r>
            <a:endParaRPr b="0" lang="en-US" sz="25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language is absolutely different from Chinese, but people had to use Chinese characters to record what they want</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Berlin Sans FB"/>
                <a:ea typeface="굴림"/>
              </a:rPr>
              <a:t>Dec., 1443</a:t>
            </a:r>
            <a:r>
              <a:rPr b="0" lang="en-US" sz="2200" spc="-1" strike="noStrike">
                <a:solidFill>
                  <a:srgbClr val="000000"/>
                </a:solidFill>
                <a:latin typeface="Berlin Sans FB"/>
                <a:ea typeface="굴림"/>
              </a:rPr>
              <a:t>: King Sejong the Great (and his scholars in ‘Jiphyeonjeon’ (</a:t>
            </a:r>
            <a:r>
              <a:rPr b="0" lang="ko-KR" sz="2200" spc="-1" strike="noStrike">
                <a:solidFill>
                  <a:srgbClr val="000000"/>
                </a:solidFill>
                <a:latin typeface="Berlin Sans FB"/>
                <a:ea typeface="굴림"/>
              </a:rPr>
              <a:t>집현전</a:t>
            </a:r>
            <a:r>
              <a:rPr b="0" lang="en-US" sz="2200" spc="-1" strike="noStrike">
                <a:solidFill>
                  <a:srgbClr val="000000"/>
                </a:solidFill>
                <a:latin typeface="Berlin Sans FB"/>
                <a:ea typeface="굴림"/>
              </a:rPr>
              <a:t>)?) of Yi dynasty create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nd promulgated this writing system under the name ‘Hunminjeongeum’ (</a:t>
            </a:r>
            <a:r>
              <a:rPr b="0" lang="ko-KR" sz="2200" spc="-1" strike="noStrike">
                <a:solidFill>
                  <a:srgbClr val="000000"/>
                </a:solidFill>
                <a:latin typeface="Berlin Sans FB"/>
                <a:ea typeface="굴림"/>
              </a:rPr>
              <a:t>훈민정음</a:t>
            </a:r>
            <a:r>
              <a:rPr b="0" lang="en-US" sz="2200" spc="-1" strike="noStrike">
                <a:solidFill>
                  <a:srgbClr val="000000"/>
                </a:solidFill>
                <a:latin typeface="Berlin Sans FB"/>
                <a:ea typeface="굴림"/>
              </a:rPr>
              <a:t>) </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iginal writing system had 17 consonants and 11 vowls (now Hangul has 14 consonants and 10 vowls)</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aristocrats and many nobles, so called ‘Yangban’ (</a:t>
            </a:r>
            <a:r>
              <a:rPr b="0" lang="ko-KR" sz="2200" spc="-1" strike="noStrike">
                <a:solidFill>
                  <a:srgbClr val="000000"/>
                </a:solidFill>
                <a:latin typeface="Berlin Sans FB"/>
                <a:ea typeface="굴림"/>
              </a:rPr>
              <a:t>양반</a:t>
            </a:r>
            <a:r>
              <a:rPr b="0" lang="en-US" sz="2200" spc="-1" strike="noStrike">
                <a:solidFill>
                  <a:srgbClr val="000000"/>
                </a:solidFill>
                <a:latin typeface="Berlin Sans FB"/>
                <a:ea typeface="굴림"/>
              </a:rPr>
              <a:t>) had been strongly against this writing system.</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dinaries and females of nobles kept using this writing system, called Eonmoon (</a:t>
            </a:r>
            <a:r>
              <a:rPr b="0" lang="ko-KR" sz="2200" spc="-1" strike="noStrike">
                <a:solidFill>
                  <a:srgbClr val="000000"/>
                </a:solidFill>
                <a:latin typeface="Berlin Sans FB"/>
                <a:ea typeface="굴림"/>
              </a:rPr>
              <a:t>언문</a:t>
            </a:r>
            <a:r>
              <a:rPr b="0" lang="en-US" sz="2200" spc="-1" strike="noStrike">
                <a:solidFill>
                  <a:srgbClr val="000000"/>
                </a:solidFill>
                <a:latin typeface="Berlin Sans FB"/>
                <a:ea typeface="굴림"/>
              </a:rPr>
              <a:t>),</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haegul (</a:t>
            </a:r>
            <a:r>
              <a:rPr b="0" lang="ko-KR" sz="2200" spc="-1" strike="noStrike">
                <a:solidFill>
                  <a:srgbClr val="000000"/>
                </a:solidFill>
                <a:latin typeface="Berlin Sans FB"/>
                <a:ea typeface="굴림"/>
              </a:rPr>
              <a:t>아해글</a:t>
            </a:r>
            <a:r>
              <a:rPr b="0" lang="en-US" sz="2200" spc="-1" strike="noStrike">
                <a:solidFill>
                  <a:srgbClr val="000000"/>
                </a:solidFill>
                <a:latin typeface="Berlin Sans FB"/>
                <a:ea typeface="굴림"/>
              </a:rPr>
              <a:t>), or</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mkul (</a:t>
            </a:r>
            <a:r>
              <a:rPr b="0" lang="ko-KR" sz="2200" spc="-1" strike="noStrike">
                <a:solidFill>
                  <a:srgbClr val="000000"/>
                </a:solidFill>
                <a:latin typeface="Berlin Sans FB"/>
                <a:ea typeface="굴림"/>
              </a:rPr>
              <a:t>암클</a:t>
            </a:r>
            <a:r>
              <a:rPr b="0" lang="en-US" sz="2200" spc="-1" strike="noStrike">
                <a:solidFill>
                  <a:srgbClr val="000000"/>
                </a:solidFill>
                <a:latin typeface="Berlin Sans FB"/>
                <a:ea typeface="굴림"/>
              </a:rPr>
              <a:t>) all</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of which contain somewhat downlooking meaning</a:t>
            </a:r>
            <a:endParaRPr b="0" lang="en-US" sz="2200" spc="-1" strike="noStrike">
              <a:solidFill>
                <a:srgbClr val="000000"/>
              </a:solidFill>
              <a:latin typeface="Corbel"/>
            </a:endParaRPr>
          </a:p>
        </p:txBody>
      </p:sp>
      <p:sp>
        <p:nvSpPr>
          <p:cNvPr id="4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ea typeface="굴림"/>
              </a:rPr>
              <a:t>HANGUL </a:t>
            </a:r>
            <a:r>
              <a:rPr b="1" lang="en-US" sz="1800" spc="-1" strike="noStrike">
                <a:solidFill>
                  <a:srgbClr val="000000"/>
                </a:solidFill>
                <a:latin typeface="Corbel"/>
                <a:ea typeface="굴림"/>
              </a:rPr>
              <a:t>(HISTORY)</a:t>
            </a:r>
            <a:endParaRPr b="1" lang="en-US" sz="1800" spc="-1" strike="noStrike">
              <a:solidFill>
                <a:srgbClr val="000000"/>
              </a:solidFill>
              <a:latin typeface="Corbe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6840" y="1600200"/>
            <a:ext cx="8110440" cy="4525920"/>
          </a:xfrm>
          <a:prstGeom prst="rect">
            <a:avLst/>
          </a:prstGeom>
          <a:noFill/>
          <a:ln w="0">
            <a:noFill/>
          </a:ln>
        </p:spPr>
        <p:txBody>
          <a:bodyPr anchor="t">
            <a:normAutofit fontScale="92000"/>
          </a:bodyPr>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any Korean poem ‘shijo (</a:t>
            </a:r>
            <a:r>
              <a:rPr b="0" lang="ko-KR" sz="3200" spc="-1" strike="noStrike">
                <a:solidFill>
                  <a:srgbClr val="000000"/>
                </a:solidFill>
                <a:latin typeface="Corbel"/>
                <a:ea typeface="맑은 고딕"/>
              </a:rPr>
              <a:t>시조</a:t>
            </a:r>
            <a:r>
              <a:rPr b="0" lang="en-US" sz="3200" spc="-1" strike="noStrike">
                <a:solidFill>
                  <a:srgbClr val="000000"/>
                </a:solidFill>
                <a:latin typeface="Corbel"/>
                <a:ea typeface="맑은 고딕"/>
              </a:rPr>
              <a:t>)’ translated in English, submit the poem and your appreciation of it.</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ay use keywords ‘</a:t>
            </a:r>
            <a:r>
              <a:rPr b="0" lang="ko-KR" sz="3200" spc="-1" strike="noStrike">
                <a:solidFill>
                  <a:srgbClr val="000000"/>
                </a:solidFill>
                <a:latin typeface="Corbel"/>
                <a:ea typeface="맑은 고딕"/>
              </a:rPr>
              <a:t>시조 영문</a:t>
            </a:r>
            <a:r>
              <a:rPr b="0" lang="en-US" sz="3200" spc="-1" strike="noStrike">
                <a:solidFill>
                  <a:srgbClr val="000000"/>
                </a:solidFill>
                <a:latin typeface="Corbel"/>
                <a:ea typeface="맑은 고딕"/>
              </a:rPr>
              <a:t>’ </a:t>
            </a:r>
            <a:r>
              <a:rPr b="0" lang="en-US" sz="3200" spc="-1" strike="noStrike">
                <a:solidFill>
                  <a:srgbClr val="000000"/>
                </a:solidFill>
                <a:latin typeface="Corbel"/>
                <a:ea typeface="맑은 고딕"/>
              </a:rPr>
              <a:t>in surfing the web</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fun: ‘Gangnam Style’ by Psy</a:t>
            </a:r>
            <a:endParaRPr b="0" lang="en-US" sz="3200" spc="-1" strike="noStrike">
              <a:solidFill>
                <a:srgbClr val="000000"/>
              </a:solidFill>
              <a:latin typeface="Corbel"/>
            </a:endParaRPr>
          </a:p>
          <a:p>
            <a:pPr lvl="1" marL="683280" indent="-262800">
              <a:spcBef>
                <a:spcPts val="700"/>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ttp://youtu.be/9bZkp7q19f0</a:t>
            </a:r>
            <a:endParaRPr b="0" lang="en-US" sz="2800" spc="-1" strike="noStrike">
              <a:solidFill>
                <a:srgbClr val="000000"/>
              </a:solidFill>
              <a:latin typeface="Corbel"/>
            </a:endParaRPr>
          </a:p>
        </p:txBody>
      </p:sp>
      <p:sp>
        <p:nvSpPr>
          <p:cNvPr id="5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Assignment</a:t>
            </a:r>
            <a:endParaRPr b="1" lang="en-US" sz="4000" spc="-1" strike="noStrike">
              <a:solidFill>
                <a:srgbClr val="000000"/>
              </a:solidFill>
              <a:latin typeface="Corbe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10" descr=""/>
          <p:cNvPicPr/>
          <p:nvPr/>
        </p:nvPicPr>
        <p:blipFill>
          <a:blip r:embed="rId1"/>
          <a:stretch/>
        </p:blipFill>
        <p:spPr>
          <a:xfrm>
            <a:off x="1374840" y="907920"/>
            <a:ext cx="3174840" cy="4775400"/>
          </a:xfrm>
          <a:prstGeom prst="rect">
            <a:avLst/>
          </a:prstGeom>
          <a:ln w="0">
            <a:noFill/>
          </a:ln>
        </p:spPr>
      </p:pic>
      <p:sp>
        <p:nvSpPr>
          <p:cNvPr id="498" name="직사각형 1"/>
          <p:cNvSpPr/>
          <p:nvPr/>
        </p:nvSpPr>
        <p:spPr>
          <a:xfrm>
            <a:off x="4716360" y="909720"/>
            <a:ext cx="35100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ea typeface="굴림"/>
              </a:rPr>
              <a:t>Sejong the Great (May 7, 1397 – May 18, 1450, r. 1418 – 1450) was the fourth king of the Joseon Dynasty of Korea. He is best remembered for creating the Korean alphabet Hangul, despite strong opposition from the scholars educated in hanja (Chinese script). Sejong is one of only two Korean rulers posthumously honored with the appellation "the Great," the other being Gwanggaeto the Great of Goguryeo. (Source: Wikipedia)</a:t>
            </a:r>
            <a:endParaRPr b="0" lang="en-US" sz="1400" spc="-1" strike="noStrike">
              <a:solidFill>
                <a:srgbClr val="000000"/>
              </a:solidFill>
              <a:latin typeface="Times New Roman"/>
            </a:endParaRPr>
          </a:p>
        </p:txBody>
      </p:sp>
      <p:sp>
        <p:nvSpPr>
          <p:cNvPr id="499" name="직사각형 2"/>
          <p:cNvSpPr/>
          <p:nvPr/>
        </p:nvSpPr>
        <p:spPr>
          <a:xfrm>
            <a:off x="1374840" y="57164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travel-guide-south-korea.blogspot.kr/2010/06/gwanghamun.html</a:t>
            </a:r>
            <a:endParaRPr b="0" lang="en-US" sz="1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39680" y="620640"/>
            <a:ext cx="7452000" cy="4967280"/>
          </a:xfrm>
          <a:prstGeom prst="rect">
            <a:avLst/>
          </a:prstGeom>
          <a:ln w="0">
            <a:noFill/>
          </a:ln>
        </p:spPr>
      </p:pic>
      <p:sp>
        <p:nvSpPr>
          <p:cNvPr id="501" name="직사각형 1"/>
          <p:cNvSpPr/>
          <p:nvPr/>
        </p:nvSpPr>
        <p:spPr>
          <a:xfrm>
            <a:off x="1547640" y="5877000"/>
            <a:ext cx="64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jewel.egloos.com/tag/%ED%9B%88%EB%AF%BC%EC%A0%95%EC%9D%8C/page/1</a:t>
            </a:r>
            <a:endParaRPr b="0" lang="en-US" sz="1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3" descr=""/>
          <p:cNvPicPr/>
          <p:nvPr/>
        </p:nvPicPr>
        <p:blipFill>
          <a:blip r:embed="rId1"/>
          <a:stretch/>
        </p:blipFill>
        <p:spPr>
          <a:xfrm>
            <a:off x="1835280" y="549360"/>
            <a:ext cx="5715000" cy="4743360"/>
          </a:xfrm>
          <a:prstGeom prst="rect">
            <a:avLst/>
          </a:prstGeom>
          <a:ln w="0">
            <a:noFill/>
          </a:ln>
        </p:spPr>
      </p:pic>
      <p:sp>
        <p:nvSpPr>
          <p:cNvPr id="503" name="직사각형 1"/>
          <p:cNvSpPr/>
          <p:nvPr/>
        </p:nvSpPr>
        <p:spPr>
          <a:xfrm>
            <a:off x="2406600" y="543888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blog.naver.com/PostView.nhn?blogId=jazzroi&amp;logNo=30124578182&amp;redirect=Dlog&amp;widgetTypeCall=true</a:t>
            </a:r>
            <a:endParaRPr b="0" lang="en-US" sz="1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Middle to Late Yi Dynasty</a:t>
            </a:r>
            <a:endParaRPr b="0" lang="en-US" sz="25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Hunminjeongeum had been more popular among the lowers and females, due to it’s easiness to learn and us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Number of novels written in Hunminjeongeum appear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Letters among ordinaries and ladies had been often written with this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6C, Gasa (</a:t>
            </a:r>
            <a:r>
              <a:rPr b="0" lang="ko-KR" sz="2200" spc="-1" strike="noStrike">
                <a:solidFill>
                  <a:srgbClr val="000000"/>
                </a:solidFill>
                <a:latin typeface="Berlin Sans FB"/>
                <a:ea typeface="굴림"/>
              </a:rPr>
              <a:t>가사</a:t>
            </a:r>
            <a:r>
              <a:rPr b="0" lang="en-US" sz="2200" spc="-1" strike="noStrike">
                <a:solidFill>
                  <a:srgbClr val="000000"/>
                </a:solidFill>
                <a:latin typeface="Berlin Sans FB"/>
                <a:ea typeface="굴림"/>
              </a:rPr>
              <a:t>) became a literature genr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7C, Shijo (</a:t>
            </a:r>
            <a:r>
              <a:rPr b="0" lang="ko-KR" sz="2200" spc="-1" strike="noStrike">
                <a:solidFill>
                  <a:srgbClr val="000000"/>
                </a:solidFill>
                <a:latin typeface="Berlin Sans FB"/>
                <a:ea typeface="굴림"/>
              </a:rPr>
              <a:t>시조</a:t>
            </a:r>
            <a:r>
              <a:rPr b="0" lang="en-US" sz="2200" spc="-1" strike="noStrike">
                <a:solidFill>
                  <a:srgbClr val="000000"/>
                </a:solidFill>
                <a:latin typeface="Berlin Sans FB"/>
                <a:ea typeface="굴림"/>
              </a:rPr>
              <a:t>) flourish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4, It was renamed Gukmoon (</a:t>
            </a:r>
            <a:r>
              <a:rPr b="0" lang="ko-KR" sz="2200" spc="-1" strike="noStrike">
                <a:solidFill>
                  <a:srgbClr val="000000"/>
                </a:solidFill>
                <a:latin typeface="Berlin Sans FB"/>
                <a:ea typeface="굴림"/>
              </a:rPr>
              <a:t>국문</a:t>
            </a:r>
            <a:r>
              <a:rPr b="0" lang="en-US" sz="2200" spc="-1" strike="noStrike">
                <a:solidFill>
                  <a:srgbClr val="000000"/>
                </a:solidFill>
                <a:latin typeface="Berlin Sans FB"/>
                <a:ea typeface="굴림"/>
              </a:rPr>
              <a:t>) and became the official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5, Elementary school text began to use Gukmoon</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6, Dongnipshinmoon (</a:t>
            </a:r>
            <a:r>
              <a:rPr b="0" lang="ko-KR" sz="2200" spc="-1" strike="noStrike">
                <a:solidFill>
                  <a:srgbClr val="000000"/>
                </a:solidFill>
                <a:latin typeface="Berlin Sans FB"/>
                <a:ea typeface="굴림"/>
              </a:rPr>
              <a:t>독립신문</a:t>
            </a:r>
            <a:r>
              <a:rPr b="0" lang="en-US" sz="2200" spc="-1" strike="noStrike">
                <a:solidFill>
                  <a:srgbClr val="000000"/>
                </a:solidFill>
                <a:latin typeface="Berlin Sans FB"/>
                <a:ea typeface="굴림"/>
              </a:rPr>
              <a:t>) ha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been established, which is the first newspaper printed both in Korean (and English)</a:t>
            </a:r>
            <a:endParaRPr b="0" lang="en-US" sz="2200" spc="-1" strike="noStrike">
              <a:solidFill>
                <a:srgbClr val="000000"/>
              </a:solidFill>
              <a:latin typeface="Corbel"/>
            </a:endParaRPr>
          </a:p>
          <a:p>
            <a:pPr marL="325800" indent="-32580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395280" y="765000"/>
            <a:ext cx="5400720" cy="3667320"/>
          </a:xfrm>
          <a:prstGeom prst="rect">
            <a:avLst/>
          </a:prstGeom>
          <a:ln w="0">
            <a:noFill/>
          </a:ln>
        </p:spPr>
      </p:pic>
      <p:pic>
        <p:nvPicPr>
          <p:cNvPr id="506" name="Picture 3" descr=""/>
          <p:cNvPicPr/>
          <p:nvPr/>
        </p:nvPicPr>
        <p:blipFill>
          <a:blip r:embed="rId2"/>
          <a:stretch/>
        </p:blipFill>
        <p:spPr>
          <a:xfrm>
            <a:off x="5796000" y="981000"/>
            <a:ext cx="2857320" cy="4667400"/>
          </a:xfrm>
          <a:prstGeom prst="rect">
            <a:avLst/>
          </a:prstGeom>
          <a:ln w="0">
            <a:noFill/>
          </a:ln>
        </p:spPr>
      </p:pic>
      <p:pic>
        <p:nvPicPr>
          <p:cNvPr id="507" name="Picture 4" descr=""/>
          <p:cNvPicPr/>
          <p:nvPr/>
        </p:nvPicPr>
        <p:blipFill>
          <a:blip r:embed="rId3"/>
          <a:stretch/>
        </p:blipFill>
        <p:spPr>
          <a:xfrm>
            <a:off x="2268360" y="3395520"/>
            <a:ext cx="3419640" cy="2390760"/>
          </a:xfrm>
          <a:prstGeom prst="rect">
            <a:avLst/>
          </a:prstGeom>
          <a:ln w="0">
            <a:noFill/>
          </a:ln>
        </p:spPr>
      </p:pic>
      <p:sp>
        <p:nvSpPr>
          <p:cNvPr id="508" name="Rectangle 1"/>
          <p:cNvSpPr/>
          <p:nvPr/>
        </p:nvSpPr>
        <p:spPr>
          <a:xfrm>
            <a:off x="539640" y="59500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ifeinkorea.com/travel/ncholla/chunstory.htm</a:t>
            </a:r>
            <a:endParaRPr b="0" lang="en-US" sz="1200" spc="-1" strike="noStrike">
              <a:solidFill>
                <a:srgbClr val="000000"/>
              </a:solidFill>
              <a:latin typeface="Times New Roman"/>
            </a:endParaRPr>
          </a:p>
        </p:txBody>
      </p:sp>
      <p:sp>
        <p:nvSpPr>
          <p:cNvPr id="509" name="Rectangle 2"/>
          <p:cNvSpPr/>
          <p:nvPr/>
        </p:nvSpPr>
        <p:spPr>
          <a:xfrm>
            <a:off x="619200" y="62262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dl.org/en/item/4166/</a:t>
            </a:r>
            <a:endParaRPr b="0" lang="en-US" sz="1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3" descr=""/>
          <p:cNvPicPr/>
          <p:nvPr/>
        </p:nvPicPr>
        <p:blipFill>
          <a:blip r:embed="rId1"/>
          <a:stretch/>
        </p:blipFill>
        <p:spPr>
          <a:xfrm>
            <a:off x="2916360" y="2644920"/>
            <a:ext cx="6095880" cy="4057560"/>
          </a:xfrm>
          <a:prstGeom prst="rect">
            <a:avLst/>
          </a:prstGeom>
          <a:ln w="0">
            <a:noFill/>
          </a:ln>
        </p:spPr>
      </p:pic>
      <p:pic>
        <p:nvPicPr>
          <p:cNvPr id="511" name="Picture 2" descr=""/>
          <p:cNvPicPr/>
          <p:nvPr/>
        </p:nvPicPr>
        <p:blipFill>
          <a:blip r:embed="rId2"/>
          <a:stretch/>
        </p:blipFill>
        <p:spPr>
          <a:xfrm>
            <a:off x="684360" y="1197000"/>
            <a:ext cx="4416120" cy="2952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8880" y="692280"/>
            <a:ext cx="7620120" cy="5172120"/>
          </a:xfrm>
          <a:prstGeom prst="rect">
            <a:avLst/>
          </a:prstGeom>
          <a:ln w="0">
            <a:noFill/>
          </a:ln>
        </p:spPr>
      </p:pic>
      <p:sp>
        <p:nvSpPr>
          <p:cNvPr id="513" name="직사각형 1"/>
          <p:cNvSpPr/>
          <p:nvPr/>
        </p:nvSpPr>
        <p:spPr>
          <a:xfrm>
            <a:off x="758880" y="5894280"/>
            <a:ext cx="7620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www.bostonks.com/index.php?mid=haninnews&amp;page=16&amp;document_srl=62424</a:t>
            </a:r>
            <a:endParaRPr b="0" lang="en-US" sz="1200" spc="-1" strike="noStrike">
              <a:solidFill>
                <a:srgbClr val="000000"/>
              </a:solidFill>
              <a:latin typeface="Times New Roman"/>
            </a:endParaRPr>
          </a:p>
        </p:txBody>
      </p:sp>
      <p:sp>
        <p:nvSpPr>
          <p:cNvPr id="514" name="TextBox 2"/>
          <p:cNvSpPr/>
          <p:nvPr/>
        </p:nvSpPr>
        <p:spPr>
          <a:xfrm>
            <a:off x="780120" y="409680"/>
            <a:ext cx="52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vid R. McCann (Korea Institute, Havard University)</a:t>
            </a:r>
            <a:endParaRPr b="0" lang="en-US" sz="1800" spc="-1" strike="noStrike">
              <a:solidFill>
                <a:srgbClr val="000000"/>
              </a:solidFill>
              <a:latin typeface="Times New Roman"/>
            </a:endParaRPr>
          </a:p>
        </p:txBody>
      </p:sp>
      <p:sp>
        <p:nvSpPr>
          <p:cNvPr id="515" name="직사각형 3"/>
          <p:cNvSpPr/>
          <p:nvPr/>
        </p:nvSpPr>
        <p:spPr>
          <a:xfrm>
            <a:off x="6156360" y="603252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db9"/>
                </a:solidFill>
                <a:latin typeface="Times New Roman"/>
                <a:ea typeface="굴림"/>
              </a:rPr>
              <a:t>http://sejongsociety.org/videos/20100414</a:t>
            </a: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p:txBody>
      </p:sp>
      <p:sp>
        <p:nvSpPr>
          <p:cNvPr id="516" name="Rectangle 1"/>
          <p:cNvSpPr/>
          <p:nvPr/>
        </p:nvSpPr>
        <p:spPr>
          <a:xfrm>
            <a:off x="776160" y="630864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youtu.be/W6NouHM4aSs</a:t>
            </a: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371600" y="549000"/>
            <a:ext cx="7772400" cy="5715000"/>
          </a:xfrm>
          <a:prstGeom prst="rect">
            <a:avLst/>
          </a:prstGeom>
          <a:noFill/>
          <a:ln w="0">
            <a:noFill/>
          </a:ln>
        </p:spPr>
        <p:txBody>
          <a:bodyPr anchor="t">
            <a:normAutofit fontScale="97000"/>
          </a:bodyPr>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olonial Rule (1910-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Japanese became the official language, but Korean language and writing system had been taught and used </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12, Ju, Sigyeong coined the term ‘</a:t>
            </a:r>
            <a:r>
              <a:rPr b="0" lang="en-US" sz="2200" spc="-1" strike="noStrike">
                <a:solidFill>
                  <a:srgbClr val="ff0000"/>
                </a:solidFill>
                <a:latin typeface="Berlin Sans FB"/>
                <a:ea typeface="굴림"/>
              </a:rPr>
              <a:t>Hangul</a:t>
            </a:r>
            <a:r>
              <a:rPr b="0" lang="en-US" sz="2200" spc="-1" strike="noStrike">
                <a:solidFill>
                  <a:srgbClr val="000000"/>
                </a:solidFill>
                <a:latin typeface="Berlin Sans FB"/>
                <a:ea typeface="굴림"/>
              </a:rPr>
              <a:t> (</a:t>
            </a:r>
            <a:r>
              <a:rPr b="0" lang="ko-KR" sz="2200" spc="-1" strike="noStrike">
                <a:solidFill>
                  <a:srgbClr val="000000"/>
                </a:solidFill>
                <a:latin typeface="Berlin Sans FB"/>
                <a:ea typeface="굴림"/>
              </a:rPr>
              <a:t>한글</a:t>
            </a:r>
            <a:r>
              <a:rPr b="0" lang="en-US" sz="2200" spc="-1" strike="noStrike">
                <a:solidFill>
                  <a:srgbClr val="000000"/>
                </a:solidFill>
                <a:latin typeface="Berlin Sans FB"/>
                <a:ea typeface="굴림"/>
              </a:rPr>
              <a:t>)’ for the</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writing</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system, established the Korean Language Research Society (</a:t>
            </a:r>
            <a:r>
              <a:rPr b="0" lang="ko-KR" sz="2200" spc="-1" strike="noStrike">
                <a:solidFill>
                  <a:srgbClr val="000000"/>
                </a:solidFill>
                <a:latin typeface="Berlin Sans FB"/>
                <a:ea typeface="굴림"/>
              </a:rPr>
              <a:t>조선어학회</a:t>
            </a:r>
            <a:r>
              <a:rPr b="0" lang="en-US" sz="2200" spc="-1" strike="noStrike">
                <a:solidFill>
                  <a:srgbClr val="000000"/>
                </a:solidFill>
                <a:latin typeface="Berlin Sans FB"/>
                <a:ea typeface="굴림"/>
              </a:rPr>
              <a:t>), and led to reform the orthography of Hangul with a standardized system.</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0, Colonial Reforms, force to rename people’s name in Japanes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8, Korean Language was banned from school</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1, any of publication in Korean was banned</a:t>
            </a:r>
            <a:endParaRPr b="0" lang="en-US" sz="2200" spc="-1" strike="noStrike">
              <a:solidFill>
                <a:srgbClr val="000000"/>
              </a:solidFill>
              <a:latin typeface="Corbel"/>
            </a:endParaRPr>
          </a:p>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After Liberation (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is the only official and native languag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6, definitive modern orthography published</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unminjeongum society is trying to spread Hangul over the glob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angeul Society (</a:t>
            </a:r>
            <a:r>
              <a:rPr b="0" lang="ko-KR" sz="2200" spc="-1" strike="noStrike">
                <a:solidFill>
                  <a:srgbClr val="000000"/>
                </a:solidFill>
                <a:latin typeface="Berlin Sans FB"/>
                <a:ea typeface="굴림"/>
              </a:rPr>
              <a:t>한글학회</a:t>
            </a:r>
            <a:r>
              <a:rPr b="0" lang="en-US" sz="2200" spc="-1" strike="noStrike">
                <a:solidFill>
                  <a:srgbClr val="000000"/>
                </a:solidFill>
                <a:latin typeface="Berlin Sans FB"/>
                <a:ea typeface="굴림"/>
              </a:rPr>
              <a:t>)</a:t>
            </a:r>
            <a:endParaRPr b="0" lang="en-US" sz="2200" spc="-1" strike="noStrike">
              <a:solidFill>
                <a:srgbClr val="000000"/>
              </a:solidFill>
              <a:latin typeface="Corbel"/>
            </a:endParaRPr>
          </a:p>
          <a:p>
            <a:pPr marL="332640" indent="-33264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8:40:46Z</dcterms:created>
  <dc:creator>jyy</dc:creator>
  <dc:description/>
  <dc:language>en-US</dc:language>
  <cp:lastModifiedBy>SRU</cp:lastModifiedBy>
  <dcterms:modified xsi:type="dcterms:W3CDTF">2012-09-05T15:27:16Z</dcterms:modified>
  <cp:revision>64</cp:revision>
  <dc:subject/>
  <dc:title>KOREAN LANGUAGE</dc:title>
</cp:coreProperties>
</file>